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D92A-19C1-45A3-8BDB-B944A0B32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E057-A164-48CF-8FF7-BF2D49A890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CDD1-3F7A-41A1-A26C-D819846E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B3B6-11E6-45D2-8444-98D5381F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21BE-5437-487E-929F-206DF8F0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FB5D-3A0F-44E8-A245-9069A808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26482-8EAF-49CD-97EC-36B4A95B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853B-2F06-4B81-AE29-52F197A7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CD4D-456C-4BD6-8089-8D1CF96D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6B58-9D27-4963-A442-7DA0ACE2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87FD-29D8-4EAF-A115-DB56684C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CABC-2DDA-45AA-8452-5E3D01C2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AF2D-83CA-4DEF-937B-71EB0333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17D5-EA27-45AA-A529-7340FD2F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AB5B-DAB6-40E3-95DF-00CEEA6F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B177-DFE0-4026-9EC0-9A72E45C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6A27-3A3F-48AA-9459-F048EF51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88B0-69E8-4562-B514-1BCC7839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1DB6-771A-46F5-9191-F2A42B4D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BAEE1-60F4-4BB9-A418-489B4CFA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A732-BAFA-4337-9B0D-3687F39B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1305-22B6-4B68-8209-60A0CC46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C14E-6FB4-4C7D-B782-A228BAC5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E12B-3C08-472E-B313-0D458E03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FFEE-00DB-4FB8-A971-53F090C2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72461-3A6E-446C-97A4-DF3DC5FC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0B0C-8353-4603-8E1C-370F82C72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624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BRG, GMOD Europe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dfdef6"/>
                </a:solidFill>
                <a:latin typeface="Arial"/>
              </a:rPr>
              <a:t>BioPivot: Applying Microsoft Live Labs’ Pivot to Problems in Bioinformatics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ephen Taylor, CB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MOD Europe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Traditionall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ke spreadsheet of data with links to Gbrowse/UCSC region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ick/Filter various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d data to spreadsheet each new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Rectangle 3" descr=""/>
          <p:cNvPicPr/>
          <p:nvPr/>
        </p:nvPicPr>
        <p:blipFill>
          <a:blip r:embed="rId5"/>
          <a:stretch/>
        </p:blipFill>
        <p:spPr>
          <a:xfrm>
            <a:off x="2189160" y="4041720"/>
            <a:ext cx="43578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fdef6"/>
                </a:solidFill>
                <a:latin typeface="Arial"/>
              </a:rPr>
              <a:t>Deep Zoom Tec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laise Aguera y Arcas (TED 20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eadragon/Photosyn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www.seadragon.com/showcas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icrosoft Live Labs’ Piv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www.getpivot.com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Picture 5" descr=""/>
          <p:cNvPicPr/>
          <p:nvPr/>
        </p:nvPicPr>
        <p:blipFill>
          <a:blip r:embed="rId8"/>
          <a:stretch/>
        </p:blipFill>
        <p:spPr>
          <a:xfrm>
            <a:off x="1332000" y="2133720"/>
            <a:ext cx="3029040" cy="1850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"/>
          <p:cNvPicPr/>
          <p:nvPr/>
        </p:nvPicPr>
        <p:blipFill>
          <a:blip r:embed="rId9"/>
          <a:stretch/>
        </p:blipFill>
        <p:spPr>
          <a:xfrm>
            <a:off x="3132000" y="2565360"/>
            <a:ext cx="3071880" cy="18716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"/>
          <p:cNvPicPr/>
          <p:nvPr/>
        </p:nvPicPr>
        <p:blipFill>
          <a:blip r:embed="rId10"/>
          <a:stretch/>
        </p:blipFill>
        <p:spPr>
          <a:xfrm>
            <a:off x="5292720" y="2349360"/>
            <a:ext cx="208764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Wouldn’t it be cool..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use this in bioinformatics.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ke thousands of regions of interest of gen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ew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ilter seamlessly on meta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BioPivot To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FF3 of RO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inth column contains ‘facets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oose your GBrowse or UCSC Browser 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un the comman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ff32pivot my.gff3 –dzi –generateimages –conf mytypes.cfg -o my.cxml –browser gbrowse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BioPivot To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sers for peakfi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tate a GFF3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earest g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ons, introns, intergenic, intrage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SS/TES up and down stream 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laps of GFF3/BED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Open Sour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Zoomable User Interfaces (ZU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Zo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ttp://openzoom.org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DK for Flash, Flex &amp;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Deep Zoom Ima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3" name="Picture 5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Deep Zoom Collec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oups of tiled im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Picture 2" descr=""/>
          <p:cNvPicPr/>
          <p:nvPr/>
        </p:nvPicPr>
        <p:blipFill>
          <a:blip r:embed="rId3"/>
          <a:stretch/>
        </p:blipFill>
        <p:spPr>
          <a:xfrm>
            <a:off x="2195640" y="2421000"/>
            <a:ext cx="42638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XML Fi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27696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To D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ation scri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loy in a web browser using Silver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NA-Seq parsers e.g. cufflinks, DE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feedback from the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lse can we do with this te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cbrg.ox.ac.uk/data/biopiv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sualization of large numbers of genome reg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rying and filtering properties of genome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ivot and BioPivot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 discussion of other applications of technolo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Acknowledgements - Co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Zo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openzoom.org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sgen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biostat.jhsph.edu/~hji/cisgenom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D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code.google.com/p/bedtool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Acknowledgements - Peop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im Hug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BRG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MOD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BR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6" name="Picture 4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6582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Over 50 different GBrowse databas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ny labs started wanting GBrow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um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ter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ime se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P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NA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Next Generation Sequenc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istone modification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P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action cis/trans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CR amplified reg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NA-Se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ome Sequencing/SNP de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hIP-Seq exampl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826920" y="1484280"/>
            <a:ext cx="1152720" cy="1081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5"/>
          <p:cNvSpPr/>
          <p:nvPr/>
        </p:nvSpPr>
        <p:spPr>
          <a:xfrm>
            <a:off x="2195640" y="1700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2268360" y="1341360"/>
            <a:ext cx="11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7" descr="Launch HUMAN_HG18 GBrowse database"/>
          <p:cNvPicPr/>
          <p:nvPr/>
        </p:nvPicPr>
        <p:blipFill>
          <a:blip r:embed="rId1"/>
          <a:stretch/>
        </p:blipFill>
        <p:spPr>
          <a:xfrm>
            <a:off x="5052960" y="1335240"/>
            <a:ext cx="2712960" cy="2987640"/>
          </a:xfrm>
          <a:prstGeom prst="rect">
            <a:avLst/>
          </a:prstGeom>
          <a:ln w="0">
            <a:noFill/>
          </a:ln>
        </p:spPr>
      </p:pic>
      <p:sp>
        <p:nvSpPr>
          <p:cNvPr id="537" name="AutoShape 9"/>
          <p:cNvSpPr/>
          <p:nvPr/>
        </p:nvSpPr>
        <p:spPr>
          <a:xfrm>
            <a:off x="3564000" y="1700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AutoShape 10"/>
          <p:cNvSpPr/>
          <p:nvPr/>
        </p:nvSpPr>
        <p:spPr>
          <a:xfrm rot="1555800">
            <a:off x="2226960" y="2421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AutoShape 11"/>
          <p:cNvSpPr/>
          <p:nvPr/>
        </p:nvSpPr>
        <p:spPr>
          <a:xfrm rot="1555800">
            <a:off x="3634920" y="3068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12" descr="porcher_chipseq"/>
          <p:cNvPicPr/>
          <p:nvPr/>
        </p:nvPicPr>
        <p:blipFill>
          <a:blip r:embed="rId2"/>
          <a:stretch/>
        </p:blipFill>
        <p:spPr>
          <a:xfrm>
            <a:off x="5108400" y="3133800"/>
            <a:ext cx="2365560" cy="263376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13"/>
          <p:cNvSpPr/>
          <p:nvPr/>
        </p:nvSpPr>
        <p:spPr>
          <a:xfrm>
            <a:off x="2050920" y="306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ak p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14"/>
          <p:cNvSpPr/>
          <p:nvPr/>
        </p:nvSpPr>
        <p:spPr>
          <a:xfrm rot="8874600">
            <a:off x="3924000" y="4149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15"/>
          <p:cNvSpPr/>
          <p:nvPr/>
        </p:nvSpPr>
        <p:spPr>
          <a:xfrm rot="5400000">
            <a:off x="3264120" y="4958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6"/>
          <p:cNvSpPr/>
          <p:nvPr/>
        </p:nvSpPr>
        <p:spPr>
          <a:xfrm>
            <a:off x="4414320" y="458136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ract sequences from fea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7"/>
          <p:cNvSpPr/>
          <p:nvPr/>
        </p:nvSpPr>
        <p:spPr>
          <a:xfrm>
            <a:off x="1987200" y="479736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tif extra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18"/>
          <p:cNvSpPr/>
          <p:nvPr/>
        </p:nvSpPr>
        <p:spPr>
          <a:xfrm rot="1214400">
            <a:off x="4066920" y="57340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9"/>
          <p:cNvSpPr/>
          <p:nvPr/>
        </p:nvSpPr>
        <p:spPr>
          <a:xfrm>
            <a:off x="3128760" y="594216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blo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20" descr="CTCFlogo"/>
          <p:cNvPicPr/>
          <p:nvPr/>
        </p:nvPicPr>
        <p:blipFill>
          <a:blip r:embed="rId3"/>
          <a:stretch/>
        </p:blipFill>
        <p:spPr>
          <a:xfrm>
            <a:off x="5126040" y="5370480"/>
            <a:ext cx="30733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ChIP-Seq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324000" y="1484280"/>
            <a:ext cx="1152360" cy="10810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  <a:effectLst>
            <a:outerShdw dist="3816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1619280" y="1844640"/>
            <a:ext cx="2016000" cy="48564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2195640" y="1484280"/>
            <a:ext cx="113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3924360" y="3573360"/>
            <a:ext cx="194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ak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AutoShape 5"/>
          <p:cNvSpPr/>
          <p:nvPr/>
        </p:nvSpPr>
        <p:spPr>
          <a:xfrm rot="8067600">
            <a:off x="2639520" y="3596760"/>
            <a:ext cx="1079280" cy="485640"/>
          </a:xfrm>
          <a:prstGeom prst="rightArrow">
            <a:avLst>
              <a:gd name="adj1" fmla="val 50000"/>
              <a:gd name="adj2" fmla="val 5022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Picture 7" descr="Launch HUMAN_HG18 GBrowse database"/>
          <p:cNvPicPr/>
          <p:nvPr/>
        </p:nvPicPr>
        <p:blipFill>
          <a:blip r:embed="rId1"/>
          <a:stretch/>
        </p:blipFill>
        <p:spPr>
          <a:xfrm>
            <a:off x="3657600" y="1219320"/>
            <a:ext cx="2359080" cy="26463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2" descr="porcher_chipseq"/>
          <p:cNvPicPr/>
          <p:nvPr/>
        </p:nvPicPr>
        <p:blipFill>
          <a:blip r:embed="rId2"/>
          <a:stretch/>
        </p:blipFill>
        <p:spPr>
          <a:xfrm>
            <a:off x="1646280" y="4316400"/>
            <a:ext cx="2724120" cy="2571840"/>
          </a:xfrm>
          <a:prstGeom prst="rect">
            <a:avLst/>
          </a:prstGeom>
          <a:ln w="0">
            <a:noFill/>
          </a:ln>
        </p:spPr>
      </p:pic>
      <p:sp>
        <p:nvSpPr>
          <p:cNvPr id="558" name="AutoShape 5"/>
          <p:cNvSpPr/>
          <p:nvPr/>
        </p:nvSpPr>
        <p:spPr>
          <a:xfrm rot="2681400">
            <a:off x="5667120" y="3594240"/>
            <a:ext cx="1079280" cy="485640"/>
          </a:xfrm>
          <a:prstGeom prst="rightArrow">
            <a:avLst>
              <a:gd name="adj1" fmla="val 50000"/>
              <a:gd name="adj2" fmla="val 5022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Picture 12" descr="porcher_chipseq"/>
          <p:cNvPicPr/>
          <p:nvPr/>
        </p:nvPicPr>
        <p:blipFill>
          <a:blip r:embed="rId3"/>
          <a:stretch/>
        </p:blipFill>
        <p:spPr>
          <a:xfrm>
            <a:off x="5888160" y="4316400"/>
            <a:ext cx="2732040" cy="2571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3" descr=""/>
          <p:cNvPicPr/>
          <p:nvPr/>
        </p:nvPicPr>
        <p:blipFill>
          <a:blip r:embed="rId4"/>
          <a:stretch/>
        </p:blipFill>
        <p:spPr>
          <a:xfrm>
            <a:off x="6372360" y="465300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"/>
          <p:cNvPicPr/>
          <p:nvPr/>
        </p:nvPicPr>
        <p:blipFill>
          <a:blip r:embed="rId5"/>
          <a:stretch/>
        </p:blipFill>
        <p:spPr>
          <a:xfrm>
            <a:off x="2771640" y="4653000"/>
            <a:ext cx="11718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erimental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ti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eak finders give false posi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ts of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st choose a suitable cut-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yeballing lots of p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ef6"/>
                </a:solidFill>
                <a:latin typeface="Arial"/>
              </a:rPr>
              <a:t>Further Analysi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ich of my peaks overlap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mo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pG Is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as of con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3T13:35:49Z</dcterms:created>
  <dc:creator>STaylor</dc:creator>
  <dc:description/>
  <dc:language>en-US</dc:language>
  <cp:lastModifiedBy>GMOD / NESCent</cp:lastModifiedBy>
  <dcterms:modified xsi:type="dcterms:W3CDTF">2010-09-17T10:50:04Z</dcterms:modified>
  <cp:revision>162</cp:revision>
  <dc:subject/>
  <dc:title>Slide 1</dc:title>
</cp:coreProperties>
</file>